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wmf" ContentType="image/x-wmf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F0FB-E2C9-4715-A983-94248754F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6767-2359-4B44-BF8D-9C993D60B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D18E-29AC-48C2-BDAE-A67BBBAD0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731E-88C7-49C1-BE85-29B8A5160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5BECF-F2C4-4DCE-BD1A-675172B74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83E3C-946A-434C-AEDA-8A0F6A815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1015A-5B4F-4FBE-9677-690BF0D90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F706D-5479-4739-8CC3-4268807A2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C21D4-A2F7-4B3F-B7F8-CD2479156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A4A15-FE92-4A07-8995-169CF12F6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7C6B7-5404-47BF-9C0E-44D1D1525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072A-C241-4197-A1C9-B0353A672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5C5B0-FBEC-4D48-8A93-E1E50F157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D3E60-6F51-44B7-9310-AA56F77CC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B22FA-6E62-4E1D-A333-6B70D8E5C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137A5-A989-4D50-AB86-D17280404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44CA8-635C-4652-8B69-718409304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131AB-8FE7-499B-8AAB-378B994D1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83A3A-FEA7-4C91-B248-7B8352C4C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0BBE7-2DD0-4B2C-A2B3-C68DE55DC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999A2-F02C-4C9C-98E2-4E5DABE13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42698-4105-48F2-8A9F-C78BB5108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9938-9D4C-49E0-8C88-A1666FDC2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1E610-E82E-4693-9D93-3E341C000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423C2-ADA7-4057-9C46-6B059E76B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023C2-5A55-40E6-B98F-3AD308114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4CD00-94DB-482E-A0CD-12D0033F2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60CF0-F1AA-4F5B-B778-CDC9A274E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1B189-C78B-412E-A3D3-74D58A95B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ED013-54EF-4C52-BF41-2AF25B5B8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09DF1-EAD9-4B51-BC2C-A1C87DCBE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6F39C-BABA-4DFC-8564-D90E0C430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F8F78-C892-4427-8AEE-5A6662B6F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2652-495A-48E0-9591-2A72AAC9C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73287-FD13-49DA-A5BB-7EED7DDE8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0D503-6CFC-416C-B7B6-C3684B20A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A708C-6CD2-4673-9DB5-31837A8D3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CA79B-D090-43F2-BD37-2183E4D77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9FA54-753D-43B5-A6F5-51FDDF52B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B8684-3FB4-4760-84E7-C42570816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9E9F0-57D4-4C60-A64A-C176D2389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12D5B-892A-4E05-889E-1574E997E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DD3EC-DA08-48C5-B483-599474D4A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2DA8-434B-4D1B-A906-8FB606CAD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FB96-D346-4609-81DD-D46E45361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2BFF-E6A7-4FB5-A238-9B2BEFDD0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6DB1-3830-4514-9DC5-6B30034A1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BD1C-E633-4C27-AEB4-4D4B74BF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C2AA3-4253-44EB-987B-84DC0CC38AA8}" type="datetime2">
              <a:rPr b="0" lang="en-GB" sz="1200" spc="-1" strike="noStrike">
                <a:solidFill>
                  <a:srgbClr val="045c75"/>
                </a:solidFill>
                <a:latin typeface="Times New Roman"/>
              </a:rPr>
              <a:t>Wednesday 29 July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45c75"/>
                </a:solidFill>
                <a:latin typeface="Times New Roman"/>
              </a:rPr>
              <a:t>Created by Mr. Lafferty Maths D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53B8C-06C7-4EC3-B167-704984449EC6}" type="slidenum">
              <a:rPr b="0" lang="en-GB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06709-EB56-40C1-BD96-EB8722C6F0DF}" type="datetime2">
              <a:rPr b="0" lang="en-GB" sz="1200" spc="-1" strike="noStrike">
                <a:solidFill>
                  <a:srgbClr val="d1eaee"/>
                </a:solidFill>
                <a:latin typeface="Times New Roman"/>
              </a:rPr>
              <a:t>Wednesday 29 July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d1eaee"/>
                </a:solidFill>
                <a:latin typeface="Times New Roman"/>
              </a:rPr>
              <a:t>Created by Mr. Lafferty Maths D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93D26-1BD3-4E93-B30F-3C33ECC73A82}" type="slidenum">
              <a:rPr b="0" lang="en-GB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4425F-E2F0-4B1A-BE10-55F3D8B5EB23}" type="datetime2">
              <a:rPr b="0" lang="en-GB" sz="1200" spc="-1" strike="noStrike">
                <a:solidFill>
                  <a:srgbClr val="d1eaee"/>
                </a:solidFill>
                <a:latin typeface="Times New Roman"/>
              </a:rPr>
              <a:t>Wednesday 29 July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d1eaee"/>
                </a:solidFill>
                <a:latin typeface="Times New Roman"/>
              </a:rPr>
              <a:t>Created by Mr. Lafferty Maths D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AABCD-FCFE-46C6-9BD1-8D81C4F42C38}" type="slidenum">
              <a:rPr b="0" lang="en-GB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C2CC5-3A97-4908-8A46-897660AA7E72}" type="datetime2">
              <a:rPr b="0" lang="en-GB" sz="1200" spc="-1" strike="noStrike">
                <a:solidFill>
                  <a:srgbClr val="045c75"/>
                </a:solidFill>
                <a:latin typeface="Times New Roman"/>
              </a:rPr>
              <a:t>Wednesday 29 July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45c75"/>
                </a:solidFill>
                <a:latin typeface="Times New Roman"/>
              </a:rPr>
              <a:t>Created by Mr. Lafferty Maths D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B3F2B-EE1F-42A9-B752-0D82B46E5C7D}" type="slidenum">
              <a:rPr b="0" lang="en-GB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Rectangle 2" descr=""/>
          <p:cNvPicPr/>
          <p:nvPr/>
        </p:nvPicPr>
        <p:blipFill>
          <a:blip r:embed="rId1"/>
          <a:stretch/>
        </p:blipFill>
        <p:spPr>
          <a:xfrm>
            <a:off x="-6480" y="822240"/>
            <a:ext cx="5712120" cy="103680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8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1F566-EA98-41E8-8BF0-5F4091CEBEA6}" type="datetime2">
              <a:rPr b="0" lang="en-GB" sz="1200" spc="-1" strike="noStrike">
                <a:solidFill>
                  <a:srgbClr val="d1eaee"/>
                </a:solidFill>
                <a:latin typeface="Comic Sans MS"/>
              </a:rPr>
              <a:t>Wednesday 29 July 2026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7" name="Object 5"/>
          <p:cNvGraphicFramePr/>
          <p:nvPr/>
        </p:nvGraphicFramePr>
        <p:xfrm>
          <a:off x="1041480" y="2270160"/>
          <a:ext cx="8042040" cy="3581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8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1480" y="2270160"/>
                    <a:ext cx="804204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TextBox 9"/>
          <p:cNvSpPr/>
          <p:nvPr/>
        </p:nvSpPr>
        <p:spPr>
          <a:xfrm>
            <a:off x="7972560" y="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Comic Sans MS"/>
              </a:rPr>
              <a:t>Intege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0" name="Rectangle 10" descr=""/>
          <p:cNvPicPr/>
          <p:nvPr/>
        </p:nvPicPr>
        <p:blipFill>
          <a:blip r:embed="rId4"/>
          <a:stretch/>
        </p:blipFill>
        <p:spPr>
          <a:xfrm>
            <a:off x="-23760" y="-19080"/>
            <a:ext cx="100476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18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9D702-F30A-4844-A926-D06B98C38C60}" type="datetime2">
              <a:rPr b="0" lang="en-GB" sz="1200" spc="-1" strike="noStrike">
                <a:solidFill>
                  <a:srgbClr val="d1eaee"/>
                </a:solidFill>
                <a:latin typeface="Comic Sans MS"/>
              </a:rPr>
              <a:t>Wednesday 29 July 2026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1675440" y="234468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ff00"/>
                </a:solidFill>
                <a:uFillTx/>
                <a:latin typeface="Comic Sans MS"/>
                <a:ea typeface="Arial"/>
              </a:rPr>
              <a:t>Learning Inten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6115320" y="2344680"/>
            <a:ext cx="18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Success Criteri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5057640" y="3992400"/>
            <a:ext cx="383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2.</a:t>
            </a:r>
            <a:r>
              <a:rPr b="0" lang="en-GB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Solving expressions showing working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Line 8"/>
          <p:cNvSpPr/>
          <p:nvPr/>
        </p:nvSpPr>
        <p:spPr>
          <a:xfrm>
            <a:off x="4915080" y="2413080"/>
            <a:ext cx="0" cy="34542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Rectangle 9"/>
          <p:cNvSpPr/>
          <p:nvPr/>
        </p:nvSpPr>
        <p:spPr>
          <a:xfrm>
            <a:off x="977760" y="300528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Comic Sans MS"/>
                <a:ea typeface="Arial"/>
              </a:rPr>
              <a:t>To explain the process of working out expressions by substitution method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5057640" y="3005280"/>
            <a:ext cx="408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Understand process of substitution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Text Box 17"/>
          <p:cNvSpPr/>
          <p:nvPr/>
        </p:nvSpPr>
        <p:spPr>
          <a:xfrm>
            <a:off x="3006720" y="677880"/>
            <a:ext cx="307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Substitu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9" name="Rectangle 14" descr=""/>
          <p:cNvPicPr/>
          <p:nvPr/>
        </p:nvPicPr>
        <p:blipFill>
          <a:blip r:embed="rId1"/>
          <a:stretch/>
        </p:blipFill>
        <p:spPr>
          <a:xfrm>
            <a:off x="-23760" y="-19080"/>
            <a:ext cx="1004760" cy="409680"/>
          </a:xfrm>
          <a:prstGeom prst="rect">
            <a:avLst/>
          </a:prstGeom>
          <a:ln w="0">
            <a:noFill/>
          </a:ln>
        </p:spPr>
      </p:pic>
      <p:sp>
        <p:nvSpPr>
          <p:cNvPr id="210" name="TextBox 15"/>
          <p:cNvSpPr/>
          <p:nvPr/>
        </p:nvSpPr>
        <p:spPr>
          <a:xfrm>
            <a:off x="7972560" y="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Comic Sans MS"/>
              </a:rPr>
              <a:t>Intege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34426-6DD4-4643-ACD9-A2A55B13C26F}" type="datetime2">
              <a:rPr b="0" lang="en-GB" sz="1200" spc="-1" strike="noStrike">
                <a:solidFill>
                  <a:srgbClr val="045c75"/>
                </a:solidFill>
                <a:latin typeface="Comic Sans MS"/>
              </a:rPr>
              <a:t>Wednesday 29 July 2026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Oval 2"/>
          <p:cNvSpPr/>
          <p:nvPr/>
        </p:nvSpPr>
        <p:spPr>
          <a:xfrm>
            <a:off x="1434960" y="2095560"/>
            <a:ext cx="685800" cy="7621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Text Box 17"/>
          <p:cNvSpPr/>
          <p:nvPr/>
        </p:nvSpPr>
        <p:spPr>
          <a:xfrm>
            <a:off x="1549440" y="208296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2357280" y="2197080"/>
            <a:ext cx="618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If a = 2 and b = 14 evaluat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2203560" y="3817800"/>
            <a:ext cx="60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3067200" y="3068640"/>
            <a:ext cx="230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70c0"/>
                </a:solidFill>
                <a:latin typeface="Comic Sans MS"/>
              </a:rPr>
              <a:t>a + b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AutoShape 7"/>
          <p:cNvSpPr/>
          <p:nvPr/>
        </p:nvSpPr>
        <p:spPr>
          <a:xfrm>
            <a:off x="3211560" y="3787920"/>
            <a:ext cx="216000" cy="504720"/>
          </a:xfrm>
          <a:prstGeom prst="downArrow">
            <a:avLst>
              <a:gd name="adj1" fmla="val 50000"/>
              <a:gd name="adj2" fmla="val 58417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Text Box 8"/>
          <p:cNvSpPr/>
          <p:nvPr/>
        </p:nvSpPr>
        <p:spPr>
          <a:xfrm>
            <a:off x="3067200" y="4148280"/>
            <a:ext cx="64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70c0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Text Box 9"/>
          <p:cNvSpPr/>
          <p:nvPr/>
        </p:nvSpPr>
        <p:spPr>
          <a:xfrm>
            <a:off x="3571920" y="4148280"/>
            <a:ext cx="100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70c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AutoShape 10"/>
          <p:cNvSpPr/>
          <p:nvPr/>
        </p:nvSpPr>
        <p:spPr>
          <a:xfrm>
            <a:off x="4219560" y="3787920"/>
            <a:ext cx="216000" cy="504720"/>
          </a:xfrm>
          <a:prstGeom prst="downArrow">
            <a:avLst>
              <a:gd name="adj1" fmla="val 50000"/>
              <a:gd name="adj2" fmla="val 5841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Text Box 11"/>
          <p:cNvSpPr/>
          <p:nvPr/>
        </p:nvSpPr>
        <p:spPr>
          <a:xfrm>
            <a:off x="4075200" y="4148280"/>
            <a:ext cx="100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70c0"/>
                </a:solidFill>
                <a:latin typeface="Comic Sans MS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Text Box 12"/>
          <p:cNvSpPr/>
          <p:nvPr/>
        </p:nvSpPr>
        <p:spPr>
          <a:xfrm>
            <a:off x="2419200" y="4148280"/>
            <a:ext cx="6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70c0"/>
                </a:solidFill>
                <a:latin typeface="Comic Sans MS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Text Box 13"/>
          <p:cNvSpPr/>
          <p:nvPr/>
        </p:nvSpPr>
        <p:spPr>
          <a:xfrm>
            <a:off x="2419200" y="501336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70c0"/>
                </a:solidFill>
                <a:latin typeface="Comic Sans MS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Text Box 14"/>
          <p:cNvSpPr/>
          <p:nvPr/>
        </p:nvSpPr>
        <p:spPr>
          <a:xfrm>
            <a:off x="3067200" y="5013360"/>
            <a:ext cx="115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70c0"/>
                </a:solidFill>
                <a:latin typeface="Comic Sans MS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Text Box 15"/>
          <p:cNvSpPr/>
          <p:nvPr/>
        </p:nvSpPr>
        <p:spPr>
          <a:xfrm>
            <a:off x="5740560" y="3835440"/>
            <a:ext cx="1904760" cy="45972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Sub in a=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Text Box 16"/>
          <p:cNvSpPr/>
          <p:nvPr/>
        </p:nvSpPr>
        <p:spPr>
          <a:xfrm>
            <a:off x="5740560" y="4444920"/>
            <a:ext cx="2044440" cy="45972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Sub in b=1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Text Box 23"/>
          <p:cNvSpPr/>
          <p:nvPr/>
        </p:nvSpPr>
        <p:spPr>
          <a:xfrm>
            <a:off x="3006720" y="677880"/>
            <a:ext cx="307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fceff"/>
                </a:solidFill>
                <a:latin typeface="Comic Sans MS"/>
              </a:rPr>
              <a:t>Substitu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8" name="Rectangle 24" descr=""/>
          <p:cNvPicPr/>
          <p:nvPr/>
        </p:nvPicPr>
        <p:blipFill>
          <a:blip r:embed="rId1"/>
          <a:stretch/>
        </p:blipFill>
        <p:spPr>
          <a:xfrm>
            <a:off x="-23760" y="-19080"/>
            <a:ext cx="1004760" cy="409680"/>
          </a:xfrm>
          <a:prstGeom prst="rect">
            <a:avLst/>
          </a:prstGeom>
          <a:ln w="0">
            <a:noFill/>
          </a:ln>
        </p:spPr>
      </p:pic>
      <p:sp>
        <p:nvSpPr>
          <p:cNvPr id="229" name="TextBox 25"/>
          <p:cNvSpPr/>
          <p:nvPr/>
        </p:nvSpPr>
        <p:spPr>
          <a:xfrm>
            <a:off x="7972560" y="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Comic Sans MS"/>
              </a:rPr>
              <a:t>Intege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5F3B5-837E-4097-8CE5-BE01E4F6F6FB}" type="datetime2">
              <a:rPr b="0" lang="en-GB" sz="1200" spc="-1" strike="noStrike">
                <a:solidFill>
                  <a:srgbClr val="045c75"/>
                </a:solidFill>
                <a:latin typeface="Comic Sans MS"/>
              </a:rPr>
              <a:t>Wednesday 29 July 2026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2166840" y="2082960"/>
            <a:ext cx="62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If a = 3 and b = -9 evaluat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1568520" y="3665520"/>
            <a:ext cx="60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1803240" y="2921040"/>
            <a:ext cx="230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70c0"/>
                </a:solidFill>
                <a:latin typeface="Comic Sans MS"/>
              </a:rPr>
              <a:t>a - b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4013280" y="4051440"/>
            <a:ext cx="5041800" cy="45972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Remember “- -” replace by “+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Text Box 11"/>
          <p:cNvSpPr/>
          <p:nvPr/>
        </p:nvSpPr>
        <p:spPr>
          <a:xfrm>
            <a:off x="1727280" y="391176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0c0"/>
                </a:solidFill>
                <a:latin typeface="Comic Sans MS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Text Box 12"/>
          <p:cNvSpPr/>
          <p:nvPr/>
        </p:nvSpPr>
        <p:spPr>
          <a:xfrm>
            <a:off x="2260440" y="3911760"/>
            <a:ext cx="8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70c0"/>
                </a:solidFill>
                <a:latin typeface="Comic Sans MS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Text Box 13"/>
          <p:cNvSpPr/>
          <p:nvPr/>
        </p:nvSpPr>
        <p:spPr>
          <a:xfrm>
            <a:off x="2793960" y="3911760"/>
            <a:ext cx="130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0c0"/>
                </a:solidFill>
                <a:latin typeface="Comic Sans MS"/>
              </a:rPr>
              <a:t>(-9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Text Box 15"/>
          <p:cNvSpPr/>
          <p:nvPr/>
        </p:nvSpPr>
        <p:spPr>
          <a:xfrm>
            <a:off x="1041480" y="391176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70c0"/>
                </a:solidFill>
                <a:latin typeface="Comic Sans MS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Text Box 16"/>
          <p:cNvSpPr/>
          <p:nvPr/>
        </p:nvSpPr>
        <p:spPr>
          <a:xfrm>
            <a:off x="1041480" y="4711680"/>
            <a:ext cx="106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70c0"/>
                </a:solidFill>
                <a:latin typeface="Comic Sans MS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Text Box 17"/>
          <p:cNvSpPr/>
          <p:nvPr/>
        </p:nvSpPr>
        <p:spPr>
          <a:xfrm>
            <a:off x="1650960" y="4711680"/>
            <a:ext cx="184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70c0"/>
                </a:solidFill>
                <a:latin typeface="Comic Sans MS"/>
              </a:rPr>
              <a:t>3 + 9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Oval 18"/>
          <p:cNvSpPr/>
          <p:nvPr/>
        </p:nvSpPr>
        <p:spPr>
          <a:xfrm>
            <a:off x="1104840" y="2031840"/>
            <a:ext cx="685800" cy="762120"/>
          </a:xfrm>
          <a:prstGeom prst="ellipse">
            <a:avLst/>
          </a:prstGeom>
          <a:solidFill>
            <a:srgbClr val="99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Text Box 19"/>
          <p:cNvSpPr/>
          <p:nvPr/>
        </p:nvSpPr>
        <p:spPr>
          <a:xfrm>
            <a:off x="1181160" y="203184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Text Box 25"/>
          <p:cNvSpPr/>
          <p:nvPr/>
        </p:nvSpPr>
        <p:spPr>
          <a:xfrm>
            <a:off x="3006720" y="677880"/>
            <a:ext cx="307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fceff"/>
                </a:solidFill>
                <a:latin typeface="Comic Sans MS"/>
              </a:rPr>
              <a:t>Substitu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Text Box 16"/>
          <p:cNvSpPr/>
          <p:nvPr/>
        </p:nvSpPr>
        <p:spPr>
          <a:xfrm>
            <a:off x="1066680" y="5448240"/>
            <a:ext cx="1067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70c0"/>
                </a:solidFill>
                <a:latin typeface="Comic Sans MS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Text Box 17"/>
          <p:cNvSpPr/>
          <p:nvPr/>
        </p:nvSpPr>
        <p:spPr>
          <a:xfrm>
            <a:off x="1676520" y="5448240"/>
            <a:ext cx="184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70c0"/>
                </a:solidFill>
                <a:latin typeface="Comic Sans MS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Rectangle 22" descr=""/>
          <p:cNvPicPr/>
          <p:nvPr/>
        </p:nvPicPr>
        <p:blipFill>
          <a:blip r:embed="rId1"/>
          <a:stretch/>
        </p:blipFill>
        <p:spPr>
          <a:xfrm>
            <a:off x="-23760" y="-19080"/>
            <a:ext cx="1004760" cy="409680"/>
          </a:xfrm>
          <a:prstGeom prst="rect">
            <a:avLst/>
          </a:prstGeom>
          <a:ln w="0">
            <a:noFill/>
          </a:ln>
        </p:spPr>
      </p:pic>
      <p:sp>
        <p:nvSpPr>
          <p:cNvPr id="247" name="TextBox 23"/>
          <p:cNvSpPr/>
          <p:nvPr/>
        </p:nvSpPr>
        <p:spPr>
          <a:xfrm>
            <a:off x="7972560" y="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Comic Sans MS"/>
              </a:rPr>
              <a:t>Intege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C6676-52AB-419D-87C5-A7DB7423EA0A}" type="datetime2">
              <a:rPr b="0" lang="en-GB" sz="1200" spc="-1" strike="noStrike">
                <a:solidFill>
                  <a:srgbClr val="045c75"/>
                </a:solidFill>
                <a:latin typeface="Comic Sans MS"/>
              </a:rPr>
              <a:t>Wednesday 29 July 2026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1055520" y="1862280"/>
            <a:ext cx="723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f a = 5 and b = 6 evalua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900000" y="292428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0070c0"/>
                </a:solidFill>
                <a:latin typeface="Comic Sans MS"/>
              </a:rPr>
              <a:t>a + b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900000" y="407664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0070c0"/>
                </a:solidFill>
                <a:latin typeface="Comic Sans MS"/>
              </a:rPr>
              <a:t>ab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900000" y="522936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0070c0"/>
                </a:solidFill>
                <a:latin typeface="Comic Sans MS"/>
              </a:rPr>
              <a:t>3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Text Box 7"/>
          <p:cNvSpPr/>
          <p:nvPr/>
        </p:nvSpPr>
        <p:spPr>
          <a:xfrm>
            <a:off x="5364000" y="292428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4.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0070c0"/>
                </a:solidFill>
                <a:latin typeface="Comic Sans MS"/>
              </a:rPr>
              <a:t>b - 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Text Box 8"/>
          <p:cNvSpPr/>
          <p:nvPr/>
        </p:nvSpPr>
        <p:spPr>
          <a:xfrm>
            <a:off x="5364000" y="407664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5.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0070c0"/>
                </a:solidFill>
                <a:latin typeface="Comic Sans MS"/>
              </a:rPr>
              <a:t>4b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Text Box 9"/>
          <p:cNvSpPr/>
          <p:nvPr/>
        </p:nvSpPr>
        <p:spPr>
          <a:xfrm>
            <a:off x="5364000" y="522936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6.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0070c0"/>
                </a:solidFill>
                <a:latin typeface="Comic Sans MS"/>
              </a:rPr>
              <a:t>3ab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Text Box 11"/>
          <p:cNvSpPr/>
          <p:nvPr/>
        </p:nvSpPr>
        <p:spPr>
          <a:xfrm>
            <a:off x="3492360" y="2924280"/>
            <a:ext cx="121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=1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Text Box 12"/>
          <p:cNvSpPr/>
          <p:nvPr/>
        </p:nvSpPr>
        <p:spPr>
          <a:xfrm>
            <a:off x="3492360" y="4076640"/>
            <a:ext cx="121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=3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Text Box 13"/>
          <p:cNvSpPr/>
          <p:nvPr/>
        </p:nvSpPr>
        <p:spPr>
          <a:xfrm>
            <a:off x="3419640" y="5229360"/>
            <a:ext cx="121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=1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Text Box 14"/>
          <p:cNvSpPr/>
          <p:nvPr/>
        </p:nvSpPr>
        <p:spPr>
          <a:xfrm>
            <a:off x="7885080" y="2924280"/>
            <a:ext cx="1120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=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Text Box 15"/>
          <p:cNvSpPr/>
          <p:nvPr/>
        </p:nvSpPr>
        <p:spPr>
          <a:xfrm>
            <a:off x="7885080" y="4076640"/>
            <a:ext cx="121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=2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Text Box 16"/>
          <p:cNvSpPr/>
          <p:nvPr/>
        </p:nvSpPr>
        <p:spPr>
          <a:xfrm>
            <a:off x="7885080" y="5229360"/>
            <a:ext cx="121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=9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Text Box 22"/>
          <p:cNvSpPr/>
          <p:nvPr/>
        </p:nvSpPr>
        <p:spPr>
          <a:xfrm>
            <a:off x="3006720" y="677880"/>
            <a:ext cx="307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fceff"/>
                </a:solidFill>
                <a:latin typeface="Comic Sans MS"/>
              </a:rPr>
              <a:t>Substitu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3" name="Rectangle 21" descr=""/>
          <p:cNvPicPr/>
          <p:nvPr/>
        </p:nvPicPr>
        <p:blipFill>
          <a:blip r:embed="rId1"/>
          <a:stretch/>
        </p:blipFill>
        <p:spPr>
          <a:xfrm>
            <a:off x="-23760" y="-19080"/>
            <a:ext cx="1004760" cy="409680"/>
          </a:xfrm>
          <a:prstGeom prst="rect">
            <a:avLst/>
          </a:prstGeom>
          <a:ln w="0">
            <a:noFill/>
          </a:ln>
        </p:spPr>
      </p:pic>
      <p:sp>
        <p:nvSpPr>
          <p:cNvPr id="264" name="TextBox 22"/>
          <p:cNvSpPr/>
          <p:nvPr/>
        </p:nvSpPr>
        <p:spPr>
          <a:xfrm>
            <a:off x="7972560" y="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Comic Sans MS"/>
              </a:rPr>
              <a:t>Intege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8FFDB-7ED4-4C08-9D8B-6626BF5D5568}" type="datetime2">
              <a:rPr b="0" lang="en-GB" sz="1200" spc="-1" strike="noStrike">
                <a:solidFill>
                  <a:srgbClr val="045c75"/>
                </a:solidFill>
                <a:latin typeface="Comic Sans MS"/>
              </a:rPr>
              <a:t>Wednesday 29 July 2026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Rectangle 2"/>
          <p:cNvSpPr/>
          <p:nvPr/>
        </p:nvSpPr>
        <p:spPr>
          <a:xfrm>
            <a:off x="1324080" y="4992840"/>
            <a:ext cx="6315120" cy="1220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1457280" y="1963800"/>
            <a:ext cx="6058080" cy="2958480"/>
          </a:xfrm>
          <a:prstGeom prst="rect">
            <a:avLst/>
          </a:prstGeom>
          <a:solidFill>
            <a:srgbClr val="4fceff"/>
          </a:solidFill>
          <a:ln w="76320">
            <a:solidFill>
              <a:srgbClr val="7e96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  <a:ea typeface="Arial"/>
              </a:rPr>
              <a:t>Now complete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  <a:ea typeface="Arial"/>
              </a:rPr>
              <a:t>page 28    Ex 5.1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  <a:ea typeface="Arial"/>
              </a:rPr>
              <a:t>Q1 –   Q4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Page 30   Investig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Text Box 22"/>
          <p:cNvSpPr/>
          <p:nvPr/>
        </p:nvSpPr>
        <p:spPr>
          <a:xfrm>
            <a:off x="3006720" y="677880"/>
            <a:ext cx="307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fceff"/>
                </a:solidFill>
                <a:latin typeface="Comic Sans MS"/>
              </a:rPr>
              <a:t>Substitu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9" name="Rectangle 13" descr=""/>
          <p:cNvPicPr/>
          <p:nvPr/>
        </p:nvPicPr>
        <p:blipFill>
          <a:blip r:embed="rId1"/>
          <a:stretch/>
        </p:blipFill>
        <p:spPr>
          <a:xfrm>
            <a:off x="-23760" y="-19080"/>
            <a:ext cx="1004760" cy="409680"/>
          </a:xfrm>
          <a:prstGeom prst="rect">
            <a:avLst/>
          </a:prstGeom>
          <a:ln w="0">
            <a:noFill/>
          </a:ln>
        </p:spPr>
      </p:pic>
      <p:sp>
        <p:nvSpPr>
          <p:cNvPr id="270" name="TextBox 14"/>
          <p:cNvSpPr/>
          <p:nvPr/>
        </p:nvSpPr>
        <p:spPr>
          <a:xfrm>
            <a:off x="7972560" y="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Comic Sans MS"/>
              </a:rPr>
              <a:t>Intege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TextBox 7"/>
          <p:cNvSpPr/>
          <p:nvPr/>
        </p:nvSpPr>
        <p:spPr>
          <a:xfrm>
            <a:off x="123840" y="1447920"/>
            <a:ext cx="26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Letters and Numbe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TextBox 9"/>
          <p:cNvSpPr/>
          <p:nvPr/>
        </p:nvSpPr>
        <p:spPr>
          <a:xfrm>
            <a:off x="1657440" y="448632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8T18:17:26Z</dcterms:created>
  <dc:creator>Bernie Lafferty</dc:creator>
  <dc:description/>
  <dc:language>en-US</dc:language>
  <cp:lastModifiedBy>Caroline</cp:lastModifiedBy>
  <dcterms:modified xsi:type="dcterms:W3CDTF">2009-05-25T20:34:40Z</dcterms:modified>
  <cp:revision>73</cp:revision>
  <dc:subject/>
  <dc:title>Slide 1</dc:title>
</cp:coreProperties>
</file>